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3.wmf" ContentType="image/x-wmf"/>
  <Override PartName="/ppt/media/image15.jpeg" ContentType="image/jpeg"/>
  <Override PartName="/ppt/media/image7.jpeg" ContentType="image/jpeg"/>
  <Override PartName="/ppt/media/applause.wav" ContentType="audio/x-wav"/>
  <Override PartName="/ppt/media/image6.jpeg" ContentType="image/jpeg"/>
  <Override PartName="/ppt/media/image8.png" ContentType="image/png"/>
  <Override PartName="/ppt/media/image12.wmf" ContentType="image/x-wmf"/>
  <Override PartName="/ppt/media/carbrake.wav" ContentType="audio/x-wav"/>
  <Override PartName="/ppt/media/image17.jpeg" ContentType="image/jpeg"/>
  <Override PartName="/ppt/media/cashreg.wav" ContentType="audio/x-wav"/>
  <Override PartName="/ppt/media/image9.png" ContentType="image/png"/>
  <Override PartName="/ppt/media/image13.wmf" ContentType="image/x-wmf"/>
  <Override PartName="/ppt/media/image10.jpeg" ContentType="image/jpeg"/>
  <Override PartName="/ppt/media/image25.jpeg" ContentType="image/jpeg"/>
  <Override PartName="/ppt/media/image2.wmf" ContentType="image/x-wmf"/>
  <Override PartName="/ppt/media/image23.jpeg" ContentType="image/jpeg"/>
  <Override PartName="/ppt/media/image4.wmf" ContentType="image/x-wmf"/>
  <Override PartName="/ppt/media/image1.jpeg" ContentType="image/jpeg"/>
  <Override PartName="/ppt/media/image5.wmf" ContentType="image/x-wmf"/>
  <Override PartName="/ppt/media/image16.jpeg" ContentType="image/jpeg"/>
  <Override PartName="/ppt/media/ricochet.wav" ContentType="audio/x-wav"/>
  <Override PartName="/ppt/media/image18.jpeg" ContentType="image/jpeg"/>
  <Override PartName="/ppt/media/image19.jpeg" ContentType="image/jpeg"/>
  <Override PartName="/ppt/media/image21.png" ContentType="image/png"/>
  <Override PartName="/ppt/media/image14.jpeg" ContentType="image/jpeg"/>
  <Override PartName="/ppt/media/driveby.wav" ContentType="audio/x-wav"/>
  <Override PartName="/ppt/media/image11.wmf" ContentType="image/x-wmf"/>
  <Override PartName="/ppt/media/explode.wav" ContentType="audio/x-wav"/>
  <Override PartName="/ppt/media/image22.wmf" ContentType="image/x-wmf"/>
  <Override PartName="/ppt/media/image20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A264-76C5-433C-B8BC-195A4BA0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BD19-7AD7-429D-9CA8-B2B8446A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976-30EF-44FA-ADE9-B2B3EC9C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17CD-BDE9-46D9-B8D6-EB619932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2E39-6AE0-4BC5-9303-7C79B347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3F49-1A5C-449A-85CB-036C7B6C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AAE7-3868-4A27-8D1D-3426AC1B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A763-05D1-473D-8042-3B5D8DBF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8765-5518-457B-B330-9E4C0640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8B36-0B01-4BC8-91C8-87F91A11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51C3-7238-4A5E-AD1D-D8770447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E18D-616E-4A77-8E12-5837994F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C9D6-96E6-4B54-B6E1-A320C192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BBCC-2EE7-439E-8C40-092C7D72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5228-BA73-448E-94F2-FB4E8BDA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837A-324E-4D4B-9D3C-0EEAB52C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AC6A-6323-4118-88F4-4094D8D1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3B9C9-400B-4C09-84A7-3308C6BE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F5556-0C52-427B-8B52-EE4D553A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04D7C-EC1C-44A3-8FAC-2434380E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74771-CCD7-4F84-9C92-0AD4D7A8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12B2F-CC30-4A48-A812-80414973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C69-A862-4833-942F-4C38ED0B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C75BC-50A5-41E4-AB3C-A5572889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6A014-A62F-424E-9277-8BEBE9BD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5D439-4834-4A91-BEEA-9744A886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549C2-9D0F-4581-A61A-82994B9B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F5C61-7738-4A63-A581-4865950D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CA1C4-B4BF-45C0-999C-C484F16D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971B0-15A5-4BAB-8803-92B705BC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E2B-26BC-4B43-9EB3-9B87468F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0E7-688B-4556-A6A3-26F5F80F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3B8F-093F-4411-8C29-5C6BA63A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BF1-C876-455E-8175-2B847BF3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DC67-8BAB-40BC-95B3-68821E9C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C5C-74C2-4B14-A794-2398E506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1913-8B89-4DD5-A0BC-07A30858A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EF70-E9E7-4CAD-B70E-12EF48D79E7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F6B7-52DF-41A8-8A31-810F1D85DE8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hyperlink" Target="http://images.google.at/imgres?imgurl=http://www.telering.at/Content.Node/unternehmen/telering-Logo.jpg&amp;imgrefurl=http://www.telering.at/Content.Node/presse/548.php&amp;h=591&amp;w=591&amp;sz=27&amp;tbnid=nxbmd-tI6EoJ:&amp;tbnh=132&amp;tbnw=132&amp;start=1&amp;prev=/images%3Fq%3Dtelering%26hl%3Dde%26lr%3D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at/imgres?imgurl=http://laflammerouge.com/archives/images/T-Mobile_4-thumb.jpg&amp;imgrefurl=http://laflammerouge.com/archives/2004_01.php&amp;h=245&amp;w=197&amp;sz=10&amp;tbnid=wMtZhsmWwTAJ:&amp;tbnh=104&amp;tbnw=84&amp;start=16&amp;prev=/images%3Fq%3Dt-mobile%26hl%3Dde%26lr%3D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www.one.at/cgi-bin/onechp/onechp/home/home.do?pageType=0&amp;pagePath=/common/chpstartguest.jsp&amp;channelId=-8126&amp;pageFlag=guest&amp;BV_SessionID=@@@@1156696706.1099641112@@@@&amp;BV_EngineID=ccdhadcmmilkdgfcfngcfkmdhkgdgno.0" TargetMode="External"/><Relationship Id="rId8" Type="http://schemas.openxmlformats.org/officeDocument/2006/relationships/image" Target="../media/image8.png"/><Relationship Id="rId9" Type="http://schemas.openxmlformats.org/officeDocument/2006/relationships/hyperlink" Target="http://www.a1.net/index" TargetMode="External"/><Relationship Id="rId10" Type="http://schemas.openxmlformats.org/officeDocument/2006/relationships/image" Target="../media/image9.png"/><Relationship Id="rId11" Type="http://schemas.openxmlformats.org/officeDocument/2006/relationships/hyperlink" Target="http://images.google.at/imgres?imgurl=http://www.motorola.it/collezione2004/images/A925_lat_hr.jpg&amp;imgrefurl=http://www.motorola.it/collezione2004/A925.asp&amp;h=2778&amp;w=2790&amp;sz=1082&amp;tbnid=QdkL2jMvNaEJ:&amp;tbnh=149&amp;tbnw=149&amp;start=5&amp;prev=/images%3Fq%3Dmotorola%26hl%3Dde%26lr%3D" TargetMode="External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hyperlink" Target="http://images.google.at/imgres?imgurl=http://www.logoenjoy.com/cellulari-telefonini/images/1-nokia-6100.jpg&amp;imgrefurl=http://forum.gkv.nl/showtopic.asp%3FtID%3D2263%26pageID%3D13&amp;h=335&amp;w=202&amp;sz=17&amp;tbnid=H8EVkqaUeKQJ:&amp;tbnh=114&amp;tbnw=69&amp;start=1&amp;prev=/images%3Fq%3DNokia%26hl%3Dde%26lr%3D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at/imgres?imgurl=http://www.icm.siemens.com/prod_images/mobile/C56/hires/Onyx_Front.jpg&amp;imgrefurl=http://www.icm.siemens.com/prod_images/mobile/C56/&amp;h=1500&amp;w=760&amp;sz=260&amp;tbnid=cQ0vJajm2awJ:&amp;tbnh=150&amp;tbnw=76&amp;start=29&amp;prev=/images%3Fq%3DSiemens%26start%3D20%26hl%3Dde%26lr%3D%26sa%3DN" TargetMode="External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41f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79280" y="189000"/>
            <a:ext cx="8964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om Handy zum </a:t>
            </a:r>
            <a:endParaRPr b="0" lang="en-US" sz="4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ernetzten User</a:t>
            </a:r>
            <a:endParaRPr b="0" lang="en-US" sz="4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86900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orte"/>
              </a:rPr>
              <a:t>Ein Projekt der 7.B Klass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orte"/>
              </a:rPr>
              <a:t>Bischöfliches Gymnasium Gra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7b_1" descr=""/>
          <p:cNvPicPr/>
          <p:nvPr/>
        </p:nvPicPr>
        <p:blipFill>
          <a:blip r:embed="rId1"/>
          <a:srcRect l="0" t="12446" r="0" b="25999"/>
          <a:stretch/>
        </p:blipFill>
        <p:spPr>
          <a:xfrm>
            <a:off x="609480" y="1523880"/>
            <a:ext cx="7391520" cy="341316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GSM: Datenübertragung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Grafik_Signalverlauf_bei_GSM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410688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GPRS: Erweiterung von G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Theoretische Höchstgeschwindigkeit: 171,2 kBit/s (alle acht Zeitschlitz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Tatsächlich nur ca. 50 kBit/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UMTS für noch schnellere Übertragu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66ccff"/>
                </a:solidFill>
                <a:latin typeface="Verdana"/>
              </a:rPr>
              <a:t>Koste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Abrechnung nach Datenmenge, nicht nach Dau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1000"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HSCSD: Erweiterung von G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Kanalbündelu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max. 4 Kanä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4  x  9,6 bis 14,4 kBit/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Weiter verbreitet als HSCSD ist GPR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GPRS bei fast allen neuen Mobiltelef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1000">
    <p:random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UM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Technik zur schnelleren Datenübertragu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Viel höhere Frequenz</a:t>
            </a:r>
            <a:br>
              <a:rPr sz="3200"/>
            </a:b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 dadurch mehr als 200-mal schnellere 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Datenübertragungsgeschwindigke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Datenaustausch wird beschleunig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Übertragungsrate: 384 kBits / S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Anderes Frequenzband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(1920 und 2170 MHz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Datenverschlüsselung durch Cod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IZMF_Grafik_UMTS_Signalverlauf" descr=""/>
          <p:cNvPicPr/>
          <p:nvPr/>
        </p:nvPicPr>
        <p:blipFill>
          <a:blip r:embed="rId1"/>
          <a:stretch/>
        </p:blipFill>
        <p:spPr>
          <a:xfrm>
            <a:off x="5724360" y="189000"/>
            <a:ext cx="3132360" cy="276372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ffcc66"/>
                </a:solidFill>
                <a:latin typeface="Arial"/>
              </a:rPr>
              <a:t>Gefahren für Kinder und Jugendlich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 u="sng">
                <a:solidFill>
                  <a:srgbClr val="ffffff"/>
                </a:solidFill>
                <a:uFillTx/>
                <a:latin typeface="Verdana"/>
              </a:rPr>
              <a:t>Bewiesen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ffffff"/>
                </a:solidFill>
                <a:latin typeface="Verdana"/>
              </a:rPr>
              <a:t>Ohrenschmerz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ffffff"/>
                </a:solidFill>
                <a:latin typeface="Verdana"/>
              </a:rPr>
              <a:t>Kopfschmerz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ffffff"/>
                </a:solidFill>
                <a:latin typeface="Verdana"/>
              </a:rPr>
              <a:t>Konzentrations= schwierigkeit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de-DE" sz="2200" spc="-1" strike="noStrike">
                <a:solidFill>
                  <a:srgbClr val="ffffff"/>
                </a:solidFill>
                <a:latin typeface="Verdana"/>
              </a:rPr>
              <a:t>Bei Kindern aufgrund des noch nicht voll ausgebildeten Nervensystems und dünnerer Schädeldecke gesundheitliche Schäden bewiesen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499000" y="1600200"/>
            <a:ext cx="2341800" cy="453060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Telefonieren</a:t>
            </a: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beim Autofahren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Telefonieren beim Autofahren erhöht das Unfallsrisiko erhebli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Freisprecheinrichtungen sorgen nicht für mehr Sicherh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Verdana"/>
              </a:rPr>
              <a:t>Kaum Einhaltung dieses Verbo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1000"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Strafen für Handynutzung während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des Autofahrens in Europ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063800" y="1484280"/>
          <a:ext cx="7016400" cy="51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1484280"/>
                    <a:ext cx="701640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3780000" y="602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6237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Öster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enguiat Bk BT"/>
              </a:rPr>
              <a:t>Gefahren des Handy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Nicht-thermische Strahlung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führt zu Kopfschmerzen, Gedächtnisverlust und Schlafstöru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 Extra Bold"/>
              </a:rPr>
              <a:t>beeinflusst Stabilität der Gehirnzellen und bringt Stoffwechselvorgänge in Zellen durcheinand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1000"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punkto Design wird sich ständig etwas weiterentwickeln. Außerdem werden sie immer leichter und klein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1752840" cy="411480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6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ergieversorgung</a:t>
            </a:r>
            <a:br>
              <a:rPr sz="4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Brennstoffzelle ersetzt Akku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der abnehmbaren Ladestation des Handys befindet sich die Brennstoffzelle, die mit Methanol-Patronen befüllt wird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3733920" cy="280656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ccecff"/>
                </a:solidFill>
                <a:latin typeface="Comic Sans MS"/>
              </a:rPr>
              <a:t>Nutzungsverhalten</a:t>
            </a:r>
            <a:endParaRPr b="0" lang="en-US" sz="6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Der 7 b Klass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2004/2005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ndy als Zahlungsmitt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Japan bereits erhältlich, soll es auch bei uns in geraumer Zukunft Mobiltelefone geben, die als „Geldbörsen“ (Chip) diene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 sollte dann mit dem Handy auch Strichcodes einscannen könne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82560" y="1600200"/>
            <a:ext cx="3581640" cy="4530600"/>
          </a:xfrm>
          <a:prstGeom prst="rect">
            <a:avLst/>
          </a:prstGeom>
          <a:ln w="0">
            <a:noFill/>
          </a:ln>
        </p:spPr>
      </p:pic>
    </p:spTree>
  </p:cSld>
  <p:transition advTm="11000">
    <p:random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Österreichische Handynet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-Mobi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le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898720" y="1571760"/>
          <a:ext cx="5986440" cy="50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8720" y="1571760"/>
                    <a:ext cx="598644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1000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68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68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6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ndy-Herstell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k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em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toro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ny-Ericss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msu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276720" y="1700280"/>
          <a:ext cx="569916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700280"/>
                    <a:ext cx="569916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1000"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Rage Italic"/>
              </a:rPr>
              <a:t>Verwendung pro Tag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69800" y="1415880"/>
          <a:ext cx="8278920" cy="481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415880"/>
                    <a:ext cx="82789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Rage Italic"/>
              </a:rPr>
              <a:t>Dienst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826920" y="1701720"/>
          <a:ext cx="7399440" cy="430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1720"/>
                    <a:ext cx="7399440" cy="43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4360" y="836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836640"/>
            <a:ext cx="1047600" cy="1297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93080" y="5516640"/>
            <a:ext cx="2050920" cy="1143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5589720"/>
            <a:ext cx="1728720" cy="788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211640" y="1341360"/>
            <a:ext cx="1419120" cy="14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5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Rage Italic"/>
              </a:rPr>
              <a:t>Kost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24000" y="1484280"/>
          <a:ext cx="7176960" cy="408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71769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7164360" y="404640"/>
            <a:ext cx="1781280" cy="178776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Rage Italic"/>
              </a:rPr>
              <a:t>Mark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99880" y="2125800"/>
          <a:ext cx="5496120" cy="439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125800"/>
                    <a:ext cx="549612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77080" y="3860640"/>
            <a:ext cx="1136520" cy="1878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5"/>
          </p:cNvPr>
          <p:cNvPicPr/>
          <p:nvPr/>
        </p:nvPicPr>
        <p:blipFill>
          <a:blip r:embed="rId6"/>
          <a:srcRect l="7236" t="0" r="5147" b="0"/>
          <a:stretch/>
        </p:blipFill>
        <p:spPr>
          <a:xfrm>
            <a:off x="1692360" y="333360"/>
            <a:ext cx="863640" cy="1655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5796000" y="549360"/>
            <a:ext cx="1065240" cy="1368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rcRect l="15644" t="0" r="14281" b="0"/>
          <a:stretch/>
        </p:blipFill>
        <p:spPr>
          <a:xfrm>
            <a:off x="7667640" y="1557360"/>
            <a:ext cx="647640" cy="1368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9"/>
          <a:srcRect l="23075" t="0" r="23561" b="0"/>
          <a:stretch/>
        </p:blipFill>
        <p:spPr>
          <a:xfrm>
            <a:off x="5867280" y="2276640"/>
            <a:ext cx="808200" cy="15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ecff"/>
                </a:solidFill>
                <a:latin typeface="Arial"/>
              </a:rPr>
              <a:t>Wie ein Handy sendet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rachsignale werden in logische Reihen von Zahlen umgewand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null und ein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rschiedene Technik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G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GP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SCS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M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1000"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08:01:54Z</dcterms:created>
  <dc:creator>cpaier</dc:creator>
  <dc:description/>
  <dc:language>en-US</dc:language>
  <cp:lastModifiedBy>Bischöfliches Gymnasium</cp:lastModifiedBy>
  <dcterms:modified xsi:type="dcterms:W3CDTF">2005-06-12T09:07:53Z</dcterms:modified>
  <cp:revision>27</cp:revision>
  <dc:subject/>
  <dc:title>Folie 1</dc:title>
</cp:coreProperties>
</file>